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2CF-AC5E-43E7-BF46-303785BD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20D-73B1-4BAF-8484-9CFDBD93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7EE-8810-4A7F-9383-F3B8C6DF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D74-F3FB-4645-882A-3C59EE11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8CE-27BA-422C-AD60-D1C5189F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491-D471-4D47-86E8-13EC1FA8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A403-7C84-4265-B077-DF446DB9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8714-FC19-46DD-90AF-E31EC1AF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D14F-3411-41D4-A5B6-7EAB56BF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5BA0-A512-43F4-A9F8-CE5863A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690-3720-47DC-9E61-14388EDA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E35-5E43-4C07-8695-F08F1E33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79B-F410-4ACB-9000-B04F3F5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ED1-EEF6-48AB-A246-0031C9C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0B9-9866-4E9B-866C-17C48208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99BA-1F98-4118-B946-AFEAAE29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8E9-6FDA-40DF-B72B-0506470A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CB4-32A6-4F23-AE79-8544813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29A-4087-4AE8-B38D-75F90DD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B65-DFC3-49B0-BDF4-A77754C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944-22DD-4D88-A8FA-F5D0499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262-FFAC-4E8C-B488-BC8C89D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FFE-9520-4735-820B-EAECDDB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C2C-6986-42B9-A3CE-F8AC383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Pierre Cho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53B-E966-49A9-A5AE-2CD2A5A0C25F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51280" y="6244920"/>
            <a:ext cx="14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892-FBCD-496F-AB65-F717BDAC8428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circabc.europa.eu/w/browse/e1adf8de-0ad6-4484-84ec-80704391a038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biocides/" TargetMode="External"/><Relationship Id="rId2" Type="http://schemas.openxmlformats.org/officeDocument/2006/relationships/hyperlink" Target="https://circabc.europa.eu/w/browse/85cf24d4-e4d3-4b34-b59d-7a69394d0942" TargetMode="External"/><Relationship Id="rId3" Type="http://schemas.openxmlformats.org/officeDocument/2006/relationships/hyperlink" Target="http://echa.europa.eu/regulations/biocidal-products-regulation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The New Biocidal Products Regulation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Overview of the main principles and provisions</a:t>
            </a:r>
            <a:endParaRPr b="1" lang="en-US" sz="2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14612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06 October 2014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3f"/>
                </a:solidFill>
                <a:latin typeface="Arial"/>
              </a:rPr>
              <a:t>Meeting with Brazilian delegation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03280" y="573408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Pierre Chorain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European Commissio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DG Environment, Unit A.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proces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a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this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in the Biocidal Products Committe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pproving the substa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45600" y="2520720"/>
            <a:ext cx="84963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 sequence or in parall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90 days for Member States to agree between the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Unresolved disagreements referred to co-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mission to settle un-resolved disagree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possible on grounds of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protection of, e.g., environment or health, or 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absence of target organism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subject to agreement with applicant or Commission decis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864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ational authorisations and mutual recognition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6263-233C-4FA5-B35E-1C5B487A5E1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826920" y="1014480"/>
            <a:ext cx="7490160" cy="5654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522D-D6C6-49E7-BD2F-D255254F5BC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40000" y="1916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3f"/>
                </a:solidFill>
                <a:latin typeface="Times New Roman"/>
              </a:rPr>
              <a:t>3900 products are now  authorised in accordance with the BP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F7F8-2EC9-4F1D-8B8D-543991B5273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4000" y="1380960"/>
            <a:ext cx="8496000" cy="500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761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5600" y="2276280"/>
            <a:ext cx="849636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Facilitate access to the entire EU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valid across EU unless explicitly restricted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ducts with similar conditions of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ot open to substances fulfilling the exclusion criteria, rodenticides or antifouling products (Article 42(1)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gressive phase-in period for workability until 1 January 2020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FD8D-C2D0-432B-A54E-A0FCD2E98B2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hase-in period for reasons of workability for ECHA and CO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9/2013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roducts containing </a:t>
            </a: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ew active substances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 and PTs 1,3, 4, 5,18 and 19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17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Ts 2, 6 and 13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20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the remaining PTs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3628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e-submission meet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ECHA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evaluating competent authority chosen by applican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valuation (12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by Biocidal Products Committee 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(6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llowing the placing on the market of the product on the entire Union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3680" y="2420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s: Limit vertebrate testing, prevent competition distortion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from tests on vertebrate animal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l tox- and eco-tox studies for existing active substances for alternative suppliers and their client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spective applicant and data owner must seek agreement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If negotiation fails, ECHA gives prospective applicant right to refer if every effort was made to reach agreement and a share of the costs incurred was paid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portionate share of the costs to be settled by national courts</a:t>
            </a:r>
            <a:r>
              <a:rPr b="0" lang="fr-BE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nsation for data sharing shall be determined in a fair, transparent and non-discriminatory manne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data shar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1FA9-C8D6-41A7-B255-302E8B759B0A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mplementing legislation and guidance docu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reated</a:t>
            </a:r>
            <a:r>
              <a:rPr b="0" lang="fr-BE" sz="2400" spc="-1" strike="noStrike">
                <a:solidFill>
                  <a:srgbClr val="00003f"/>
                </a:solidFill>
                <a:latin typeface="Arial"/>
              </a:rPr>
              <a:t>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cost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s of 1 Sept. 2013, all active substance manufacturers or importers to submit a dossier or a letter of access to ECHA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ECHA to publish list of manufacturer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visional list available at: http://echa.europa.eu/information-on-chemicals/active-substance-supplie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Mandatory data and fair costs sharing to apply to all tox. and eco-tox. studies, including environmental fate and behaviou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protection until 31 Dec. 2025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products containing existing active substances of manufacturers not listed by ECHA shall not be placed on the market after 1 Sept. 2015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torage and use of existing stocks allowed until 1 Sept. 2016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tent authorities to carry out official control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imilarity, as regards the chemical composition and hazard profile, of a substance produced either from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source different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to the reference source, or from the reference source but following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change to the manufacturing process and/or manufacturing location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compared to the substance of the reference source in respect of which the initial risk assessment was carried out.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gency responsible for establishing technical equivalence (Article 54)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mplementing legislation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nd 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guidance documen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Implementing legis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4000" y="1479600"/>
            <a:ext cx="84564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changes to product authorisation :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Reg. (EU) No 35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 April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authorisation of same biocidal products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414/2013 of 6</a:t>
            </a:r>
            <a:r>
              <a:rPr b="0" lang="en-GB" sz="1600" spc="-1" strike="noStrike" baseline="33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fees to ECHA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56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extension of duration of review programme to 2024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736/2013 of 1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modification on data requirements (proof of technical equivalence in BP applications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37/2013 of 25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inclusion of active substances into Annex I of the BPR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8/2014 of 31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st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anuary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renewal of authorisations by mutual recognition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492/2014 of 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 March 2014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organisation of the review programme of active substances (to replace Reg. (EU) 1451/2007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adopted, entry into force expected by end October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23AF-C109-4BE3-895A-45A5FFACD41E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Commission guid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6668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Work on guidance documents or proposals on various topics 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Management of nanomaterial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f2d79b34-2f5a-4bb4-97e8-b982c9def765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fees payable to Member States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b5c900a2-ef66-4a46-996d-00d5a29aee9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similar conditions of use, for the Union authorisation 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b0f0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2ac21f0f-d790-4667-9358-1bcd0db0b35e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treated article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e1adf8de-0ad6-4484-84ec-80704391a038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Document on comparative assessment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d309607f-f75b-46e7-acc4-1653cadcaf7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Other Guidance under discussion :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Borderline between biocidal products and cosmetics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6283ad7a-7416-4b83-a201-92ba5822422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etc.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AE6-A37D-4542-BBE0-93C1E256652C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reated Articl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496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Protection of health and environment, level playing field between production within vs outside of the EU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llowed on the market only if all the active substances are approved for the relevant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abelling requirement for certain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adiness to provide consumer inform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Control of articles treated with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6B3E-8FAB-481A-BC03-14FD30697E8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4FA6-F0C0-4276-AC28-46E4891C427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635280" y="3514680"/>
            <a:ext cx="45817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95280" y="1276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s and scop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7F0-A695-4165-966C-6130AADB5624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5760" y="2708280"/>
            <a:ext cx="849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 of "treated articles"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ubstance, mixture or article, </a:t>
            </a:r>
            <a:r>
              <a:rPr b="0" i="1" lang="en-GB" sz="2000" spc="-1" strike="noStrike">
                <a:solidFill>
                  <a:srgbClr val="00003f"/>
                </a:solidFill>
                <a:latin typeface="Arial"/>
              </a:rPr>
              <a:t>i.e.,</a:t>
            </a: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 not only articles within the meaning of the REACH Reg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reated with or intentionally incorporating biocid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Excluded from the substantive ru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tainer fumigation where no residues rem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ansitional ru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Substance/product-type combinations that have not yet been approved are allowed in treated articles if: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he substance/product-type combination is still in the review programme for existing active substance, or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n application for approval of the substance/product-type is submitted before 1 September 2016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519280"/>
            <a:ext cx="806436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required prior to placing on the market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biocidal active substances at EU lev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product authorisation with mutual recogni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dustry responsible for submitting data allowing evalu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rules apply during the programme for review of existing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952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93C3-D314-4B01-899C-FED23AF70EEA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95280" y="105264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Labelling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973160"/>
            <a:ext cx="82296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Labelling is required if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laim is made regarding </a:t>
            </a:r>
            <a:r>
              <a:rPr b="0" lang="en-GB" sz="1900" spc="-1" strike="noStrike" u="sng">
                <a:solidFill>
                  <a:srgbClr val="00003f"/>
                </a:solidFill>
                <a:uFillTx/>
                <a:latin typeface="Arial"/>
              </a:rPr>
              <a:t>biocidal properties of the articl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r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onditions of substance approval so requir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formation to be provided in the national languag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Statement that article incorporates biocide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Biocidal property of the articl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Name of all active substances and all nanomaterial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Instructions for use to protect man and environment, where appropriat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structions for us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n any article where necessary to protect man or environment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Obligation for suppliers to give some information at the request of a consumer within 45 day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7EFC-31AB-4520-92AE-5C965E55012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eated articles considered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6036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00003f"/>
                </a:solidFill>
                <a:latin typeface="Arial"/>
              </a:rPr>
              <a:t>Treated articles having 'primary biocidal function' (Article 3(1)(a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function = the function of controlling harmful organisms by other than mere physical or mechanical 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treatment for preservation of the article itself ≠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imary = of first rank or importance compared with another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cept to be clarified on case-by-case basis (Article 3(3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 to be taken into consideration: intended use, claim regarding the function, concentration of active subst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5F94-48EF-4B5A-B7FF-B35EFA9C596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Issues open to interpre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9528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Notion of primary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lex articles of which only parts have been tre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unication obligations further down the supply ch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Level of scrutiny of different uses of treated articles for the purpose of active substance approv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ission guidance on treated article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s://circabc.europa.eu/w/browse/e1adf8de-0ad6-4484-84ec-80704391a03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E07-8D2C-478B-A9F6-A6C2E9BCF00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33360" y="1079640"/>
            <a:ext cx="830592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For further information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ommission website 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://ec.europa.eu/environment/biocides/</a:t>
            </a:r>
            <a:r>
              <a:rPr b="1" lang="en-GB" sz="1800" spc="-1" strike="noStrike" u="sng">
                <a:solidFill>
                  <a:srgbClr val="00003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IRCABC public space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2"/>
              </a:rPr>
              <a:t>https://circabc.europa.eu/w/browse/85cf24d4-e4d3-4b34-b59d-7a69394d094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ECHA website &amp; Helpdesk on Biocides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3"/>
              </a:rPr>
              <a:t>http://echa.europa.eu/regulations/biocidal-products-regulation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84360" y="1197000"/>
            <a:ext cx="82087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1423-E13E-41BB-B1A6-AEAD762EB478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3680" y="2349000"/>
            <a:ext cx="849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vide scientific and technical suppor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ordinate substance approval, Union authoris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ecretariat for BPC and the Co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T platform (R4BP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lectronic submission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dissemin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ist of (alternative) suppliers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elpdesk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he European Chemicals Agency (ECH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F185-EA46-47E3-AFF3-8160F30F49A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azard based exclusion criteria (Article 5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 : exclude active substances of very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MR category 1A or 1B, PBT, vPvB, endocrine disrupto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principle: cannot be approved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derogation: approval possible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if exposure negligible, substance essential or non-approval has disproportionate negative impact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subject to risk mitigation measure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only for Member States where needed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for maximum 5 year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as candidate for substitution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40C-3CA7-41CC-A95E-5E779A1AF35D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5600" y="2491920"/>
            <a:ext cx="849636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ubstitution criteria (Article 10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: Substitution of substances of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: Exclusion criteria, other properties of high concern (Art 10)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pproved for a maximum of 7 yea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arative assessment at product authorisatio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ternatives must present significantly lower risk, be sufficiently effective, present no significant disadvantage, and provide sufficient chemical diversity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ossible derogation for a maximum of 4 years in order to gain experience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4E1A-0FF2-4E0C-88AD-3A140465DD6E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Review programme for existing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85500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5T12:23:40Z</dcterms:created>
  <dc:creator>Johanna Bernsel</dc:creator>
  <dc:description/>
  <dc:language>en-US</dc:language>
  <cp:lastModifiedBy>CHORAINE Pierre (ENV)</cp:lastModifiedBy>
  <cp:lastPrinted>2013-12-18T14:48:35Z</cp:lastPrinted>
  <dcterms:modified xsi:type="dcterms:W3CDTF">2014-10-09T11:26:03Z</dcterms:modified>
  <cp:revision>723</cp:revision>
  <dc:subject>Revision of the Biocides Directive</dc:subject>
  <dc:title>AT Conference Nov12</dc:title>
</cp:coreProperties>
</file>